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8339E-95EC-46A0-A531-E14271EAD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07C8-7415-495B-8238-C015B4889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96D2B-DB2F-4BDF-8439-3A0E478B9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86A56-05F0-4B20-977B-94D8D8BD6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507A9-F8D7-435C-9D7A-ED1669C18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2F4CF-EA1E-440D-BE95-3BEC308D1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AB68E-EBB9-4676-AA84-38C12E762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6DCB7-A3EE-44FC-BFB5-FD8F105FD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F4804-7092-4AE8-B8DB-42E91B32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1F53-73B3-485F-932F-20F73A011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0CC95-77A5-4C8D-B182-1798DF44A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FFB07-E986-426A-B1DA-4ECE0BD58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5C35B-0D37-45F0-B854-874CFAAE7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BAAF3-4E12-47DC-AFDC-2D4CDBD86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E7ED1-3358-4BEE-88FF-040EFB63A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4731E-ABBC-4245-B6DF-634729409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E0283-C434-4F3F-943A-F07E5E70E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D2C9-C145-44CC-8B60-1107B502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52AA1-5A00-45C7-867E-7ED55CB0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260AC-9EEE-4568-ADEE-61127BB6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3690D-A8A9-4937-BF4D-24B5D74DF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8A77-CCB2-482E-A821-27BD358F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2357-54FB-476C-8538-AE5AEECAC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5EF00-0820-4A0D-A2E9-29A58043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A93D-1D79-407D-85A6-343A9A23BB8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6EA6-B8D0-4F3D-B8CF-D810B225A4A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mailto:John.Reiser@dhs.wisconsin.gov"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mailto:cstuebe@portalindustrie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moting Integrated Employment Outcomes for Individuals with ID/DD:</a:t>
            </a:r>
            <a:br>
              <a:rPr sz="3200"/>
            </a:br>
            <a:r>
              <a:rPr b="1" lang="en-US" sz="3200" spc="-1" strike="noStrike">
                <a:solidFill>
                  <a:srgbClr val="003366"/>
                </a:solidFill>
                <a:latin typeface="Arial"/>
              </a:rPr>
              <a:t>The Wisconsin Approach</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National Council on Disability</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egional Earnings Forum</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ctober 26th, 2010</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etroit, MI</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 </a:t>
            </a:r>
            <a:br>
              <a:rPr sz="3200"/>
            </a:br>
            <a:r>
              <a:rPr b="1" lang="en-US" sz="3200" spc="-1" strike="noStrike">
                <a:solidFill>
                  <a:srgbClr val="006666"/>
                </a:solidFill>
                <a:latin typeface="Arial"/>
              </a:rPr>
              <a:t>People with ID/DD (continued)</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partment should update the service definition of </a:t>
            </a:r>
            <a:r>
              <a:rPr b="1" lang="en-US" sz="1800" spc="-1" strike="noStrike">
                <a:solidFill>
                  <a:srgbClr val="003366"/>
                </a:solidFill>
                <a:latin typeface="Arial"/>
              </a:rPr>
              <a:t>prevocational services</a:t>
            </a:r>
            <a:r>
              <a:rPr b="0" lang="en-US" sz="1800" spc="-1" strike="noStrike">
                <a:solidFill>
                  <a:srgbClr val="003366"/>
                </a:solidFill>
                <a:latin typeface="Arial"/>
              </a:rPr>
              <a:t> to reflect the definition and standards used in the Community Integration Program (CIP) and to further encourage best practices, including the provision of services that offer people the chance to learn skills directly related to achieving their individually identified employment goals.  Prevocational services should enhance what is currently available through DVR, and should not be based on a readiness model.  For prevocational service providers that offer paid work opportunities incidental to the delivery of prevocational services, the following standards should be incorporated into the service defini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a downtime polic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OSHA health and safety standard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minimum staffing ratio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hibiting unpaid contract work or engaging in training that involves doing unpaid contract work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a:t>
            </a:r>
            <a:br>
              <a:rPr sz="3200"/>
            </a:br>
            <a:r>
              <a:rPr b="1" lang="en-US" sz="3200" spc="-1" strike="noStrike">
                <a:solidFill>
                  <a:srgbClr val="006666"/>
                </a:solidFill>
                <a:latin typeface="Arial"/>
              </a:rPr>
              <a:t>People with ID/DD (continued)</a:t>
            </a:r>
            <a:endParaRPr b="1" lang="en-US" sz="3200" spc="-1" strike="noStrike">
              <a:solidFill>
                <a:srgbClr val="006666"/>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cy governing employment services should clarify that a Family Care enrollee can be referred to DVR or to MCO-funded supported employment services without prior participation in </a:t>
            </a:r>
            <a:r>
              <a:rPr b="1" lang="en-US" sz="2400" spc="-1" strike="noStrike">
                <a:solidFill>
                  <a:srgbClr val="003366"/>
                </a:solidFill>
                <a:latin typeface="Arial"/>
              </a:rPr>
              <a:t>prevocational servic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partment should consider developing rigorous criteria that would apply for new admissions to </a:t>
            </a:r>
            <a:r>
              <a:rPr b="1" lang="en-US" sz="2400" spc="-1" strike="noStrike">
                <a:solidFill>
                  <a:srgbClr val="003366"/>
                </a:solidFill>
                <a:latin typeface="Arial"/>
              </a:rPr>
              <a:t>prevocational services</a:t>
            </a:r>
            <a:r>
              <a:rPr b="0" lang="en-US" sz="2400" spc="-1" strike="noStrike">
                <a:solidFill>
                  <a:srgbClr val="003366"/>
                </a:solidFill>
                <a:latin typeface="Arial"/>
              </a:rPr>
              <a:t> in work centers/sheltered workshops while honoring individual informed choic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ing Prevocational Service Definition</a:t>
            </a:r>
            <a:endParaRPr b="1" lang="en-US" sz="3200" spc="-1" strike="noStrike">
              <a:solidFill>
                <a:srgbClr val="006666"/>
              </a:solidFill>
              <a:latin typeface="Arial"/>
            </a:endParaRPr>
          </a:p>
        </p:txBody>
      </p:sp>
      <p:sp>
        <p:nvSpPr>
          <p:cNvPr id="11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 Care waivers due for renewal in fall of 2009.  </a:t>
            </a:r>
            <a:endParaRPr b="0" lang="en-US" sz="2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definitions for employment services included in renewal application</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ss began with consulting MCOs and reviewing the updated CMS Technical Guide</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CETF recommendations combined with CMS guidance resulted in revised pre-voc defini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MS Guidance Regarding </a:t>
            </a:r>
            <a:br>
              <a:rPr sz="3200"/>
            </a:br>
            <a:r>
              <a:rPr b="1" lang="en-US" sz="3200" spc="-1" strike="noStrike">
                <a:solidFill>
                  <a:srgbClr val="006666"/>
                </a:solidFill>
                <a:latin typeface="Arial"/>
              </a:rPr>
              <a:t>Sheltered Work</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Waiver funding is not available for the provision of vocational services (e.g., sheltered work performed in a facility) where individuals are supervised in producing goods or performing services under contract to third parties.” (p. 132)</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y Habilitation Services and Supports Guidance: “Day habilitation may not provide for the payment of services that are vocational in nature (e.g. sheltered work).” (p. 153)</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rted Employment Guidance: “Supported employment does not include sheltered work or other similar types of vocational services furnished in specialized facilities.” (p. 156)</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rvice should develop general, non-job-task-specific strengths and skills that contribute to employability in integrated, community setting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of service is expected to be integrated, employment on at least a part-time basi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may participate in paid work as part of prevocational service delivery but this is not the intended outcome of the servic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mbers who receive prevocational services during some days or parts of days may also receive supported employment, educational, or day services at other tim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in prevocational services is not a required pre-requisite for supported employment services provided under the waiv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ational services may be provided in a variety of community locations including but not limited to work centers/sheltered workshop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ly activities that contribute to the member's work experience, work skills, or work-related knowledge can be included in prevocational service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ational services may be provided to supplement, but may not duplicate services provided as part of an approved Individualized Employment Plan (IPE) funded under the Rehabilitation Act of 1973, as amended, or under an approved Individualized Education Plan (IEP) under the Individuals with Disabilities Education Act (ID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Guidelines</a:t>
            </a:r>
            <a:endParaRPr b="1" lang="en-US" sz="3600" spc="-1" strike="noStrike">
              <a:solidFill>
                <a:srgbClr val="006666"/>
              </a:solidFill>
              <a:latin typeface="Arial"/>
            </a:endParaRPr>
          </a:p>
        </p:txBody>
      </p:sp>
      <p:sp>
        <p:nvSpPr>
          <p:cNvPr id="12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in detail how Dept expects revised service definition will be implemented in practice</a:t>
            </a:r>
            <a:endParaRPr b="0" lang="en-US" sz="28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training on Technical Guidelines released by Dept; open access for all stakeholders; required for care managers</a:t>
            </a:r>
            <a:endParaRPr b="0" lang="en-US" sz="28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ree tool and sample six month progress and status report also cre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Guidelin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prevocational service participants should be making </a:t>
            </a:r>
            <a:r>
              <a:rPr b="1" i="1" lang="en-US" sz="2400" spc="-1" strike="noStrike">
                <a:solidFill>
                  <a:srgbClr val="003366"/>
                </a:solidFill>
                <a:latin typeface="Arial"/>
              </a:rPr>
              <a:t>reasonable and continued progress</a:t>
            </a:r>
            <a:r>
              <a:rPr b="0" lang="en-US" sz="2400" spc="-1" strike="noStrike">
                <a:solidFill>
                  <a:srgbClr val="003366"/>
                </a:solidFill>
                <a:latin typeface="Arial"/>
              </a:rPr>
              <a:t> toward at least part-time participation in integrated employ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 provider expected to facilitate that progress and connect people with DVR at appropriate tim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one is capable of integrated employment with the right job match and supports in pla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sonable and Continued Progress</a:t>
            </a:r>
            <a:endParaRPr b="1" lang="en-US" sz="3200" spc="-1" strike="noStrike">
              <a:solidFill>
                <a:srgbClr val="006666"/>
              </a:solidFill>
              <a:latin typeface="Arial"/>
            </a:endParaRPr>
          </a:p>
        </p:txBody>
      </p:sp>
      <p:sp>
        <p:nvSpPr>
          <p:cNvPr id="13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RVICE PROCESS STEPS:</a:t>
            </a:r>
            <a:endParaRPr b="0" lang="en-US" sz="24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and address / overcome any concerns or hesitations with regard to integrated employment</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liminary identification of preferences and conditions related to integrated employment, including non-negotiables</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on steps toward securing integrated employment (including referral to DV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sconsin Panel Members </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ohn Reiser, Director, Office for Independence and Employment, Wisconsin Department of Health Services</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lene Dwyer, Administrator, Wisconsin Division of Vocational Rehabilitation</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a Mills, Consultant, Wisconsin Medicaid Infrastructure Grant, Employment and Long-Term Care initiative</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role Stuebe, Executive Director, Portal Inc., Grafton, WI</a:t>
            </a:r>
            <a:endParaRPr b="0" lang="en-US" sz="20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vs. Current Prevocational Service Participant</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entrants, prevocational services in a work center/sheltered workshop cannot be authorized unless an individual has a goal of at least part-time integrated employment.</a:t>
            </a:r>
            <a:endParaRPr b="0" lang="en-US" sz="2400" spc="-1" strike="noStrike">
              <a:solidFill>
                <a:srgbClr val="003366"/>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entrants </a:t>
            </a:r>
            <a:r>
              <a:rPr b="1" i="1" lang="en-US" sz="2400" spc="-1" strike="noStrike">
                <a:solidFill>
                  <a:srgbClr val="003366"/>
                </a:solidFill>
                <a:latin typeface="Arial"/>
              </a:rPr>
              <a:t>unsure</a:t>
            </a:r>
            <a:r>
              <a:rPr b="0" lang="en-US" sz="2400" spc="-1" strike="noStrike">
                <a:solidFill>
                  <a:srgbClr val="003366"/>
                </a:solidFill>
                <a:latin typeface="Arial"/>
              </a:rPr>
              <a:t> about whether they want to pursue integrated employment, </a:t>
            </a:r>
            <a:r>
              <a:rPr b="0" lang="en-US" sz="2400" spc="-1" strike="noStrike" u="sng">
                <a:solidFill>
                  <a:srgbClr val="003366"/>
                </a:solidFill>
                <a:uFillTx/>
                <a:latin typeface="Arial"/>
              </a:rPr>
              <a:t>community-based</a:t>
            </a:r>
            <a:r>
              <a:rPr b="0" lang="en-US" sz="2400" spc="-1" strike="noStrike">
                <a:solidFill>
                  <a:srgbClr val="003366"/>
                </a:solidFill>
                <a:latin typeface="Arial"/>
              </a:rPr>
              <a:t> prevocational services may be authorized to assist the individual to make an informed choice.</a:t>
            </a:r>
            <a:endParaRPr b="0" lang="en-US" sz="2400" spc="-1" strike="noStrike">
              <a:solidFill>
                <a:srgbClr val="003366"/>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new entrants are totally unwilling to explore integrated employment options, pre-voc will not be authorized but group SE will be offe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vs. Current Prevocational Service Participant</a:t>
            </a:r>
            <a:endParaRPr b="1" lang="en-US" sz="3200" spc="-1" strike="noStrike">
              <a:solidFill>
                <a:srgbClr val="006666"/>
              </a:solidFill>
              <a:latin typeface="Arial"/>
            </a:endParaRPr>
          </a:p>
        </p:txBody>
      </p:sp>
      <p:sp>
        <p:nvSpPr>
          <p:cNvPr id="13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current pre-voc participants, </a:t>
            </a:r>
            <a:r>
              <a:rPr b="1" i="1" lang="en-US" sz="2400" spc="-1" strike="noStrike">
                <a:solidFill>
                  <a:srgbClr val="003366"/>
                </a:solidFill>
                <a:latin typeface="Arial"/>
              </a:rPr>
              <a:t>reasonable and continued progress</a:t>
            </a:r>
            <a:r>
              <a:rPr b="0" lang="en-US" sz="2400" spc="-1" strike="noStrike">
                <a:solidFill>
                  <a:srgbClr val="003366"/>
                </a:solidFill>
                <a:latin typeface="Arial"/>
              </a:rPr>
              <a:t> toward transition to at least part-time integrated employment is expect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good faith effort by the pre-voc provider </a:t>
            </a:r>
            <a:r>
              <a:rPr b="1" i="1" lang="en-US" sz="2400" spc="-1" strike="noStrike">
                <a:solidFill>
                  <a:srgbClr val="003366"/>
                </a:solidFill>
                <a:latin typeface="Arial"/>
              </a:rPr>
              <a:t>over a reasonable period of time</a:t>
            </a:r>
            <a:r>
              <a:rPr b="0" lang="en-US" sz="2400" spc="-1" strike="noStrike">
                <a:solidFill>
                  <a:srgbClr val="003366"/>
                </a:solidFill>
                <a:latin typeface="Arial"/>
              </a:rPr>
              <a:t> is expected – otherwise IDT expected to consider change in provid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individual/guardian still opposed to part-time integrated employment, pre-voc can continue but would need to include some community-based pre-voc activ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ports for CRP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balancing grants and technical assist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Modeled after T-TAP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Customized employment train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 to inform development of community-based prevocational service mode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nticipated Impact on </a:t>
            </a:r>
            <a:br>
              <a:rPr sz="3200"/>
            </a:br>
            <a:r>
              <a:rPr b="1" lang="en-US" sz="3200" spc="-1" strike="noStrike">
                <a:solidFill>
                  <a:srgbClr val="006666"/>
                </a:solidFill>
                <a:latin typeface="Arial"/>
              </a:rPr>
              <a:t>Vocational Rehabilitation Services</a:t>
            </a:r>
            <a:endParaRPr b="1" lang="en-US" sz="3200" spc="-1" strike="noStrike">
              <a:solidFill>
                <a:srgbClr val="006666"/>
              </a:solidFill>
              <a:latin typeface="Arial"/>
            </a:endParaRPr>
          </a:p>
        </p:txBody>
      </p:sp>
      <p:sp>
        <p:nvSpPr>
          <p:cNvPr id="140" name="PlaceHolder 2"/>
          <p:cNvSpPr>
            <a:spLocks noGrp="1"/>
          </p:cNvSpPr>
          <p:nvPr>
            <p:ph/>
          </p:nvPr>
        </p:nvSpPr>
        <p:spPr>
          <a:xfrm>
            <a:off x="990360" y="2285640"/>
            <a:ext cx="7924680" cy="4343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referrals to DVR of individuals needing</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munity-based assessme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stomized employment placeme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rted employment services (currently @ 12%)</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ng term employment support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for a statewide inter-agency service provision agreement supported by: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chnical assistance guidan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all partners and service provision staff on collaborative, cooperative service provision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Customized Employment Pilot</a:t>
            </a:r>
            <a:endParaRPr b="1" lang="en-US" sz="3600" spc="-1" strike="noStrike">
              <a:solidFill>
                <a:srgbClr val="006666"/>
              </a:solidFill>
              <a:latin typeface="Arial"/>
            </a:endParaRPr>
          </a:p>
        </p:txBody>
      </p:sp>
      <p:sp>
        <p:nvSpPr>
          <p:cNvPr id="142"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VR wanted to explore Customized Employmen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ed with System Partners and local Service Providers to develop a pilo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ilot was conducted in 4 of 11 Workforce Development Areas to gather data and promising pract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0 Common customers enrolled from a combination of general, current facility referrals and facility diversion project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iginal pilot was for 12 months now extended 6 month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ating a common understanding of the </a:t>
            </a:r>
            <a:br>
              <a:rPr sz="2800"/>
            </a:br>
            <a:r>
              <a:rPr b="1" lang="en-US" sz="2800" spc="-1" strike="noStrike">
                <a:solidFill>
                  <a:srgbClr val="006666"/>
                </a:solidFill>
                <a:latin typeface="Arial"/>
              </a:rPr>
              <a:t>VR “employment outcome standard”</a:t>
            </a:r>
            <a:endParaRPr b="1" lang="en-US" sz="28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VR employment outcome standard is more stringent than the MA waiver community employment long term support standard which allows for placements in work enclav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was confusion among our partners about what constituted an “integrated” employment setting that would satisfy the VR standard</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 decided to develop a White Paper to describe an employment outcome in terms of:</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1. The intent of the Rehabilitation Ac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2. The Act’s federal regulation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3.  Wisconsin VR polic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White Paper Development Process</a:t>
            </a:r>
            <a:endParaRPr b="1" lang="en-US" sz="32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te Paper Development, Reviewed and Feedback collect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s Senior Leadership team</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 Policy Analysts and DVR Managers</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WI DVR Policy Academy</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ty Rehabilitation Programs</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SA staff provided review and technical assistance</a:t>
            </a: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mployment Outcomes – </a:t>
            </a:r>
            <a:br>
              <a:rPr sz="3200"/>
            </a:br>
            <a:r>
              <a:rPr b="1" lang="en-US" sz="3200" spc="-1" strike="noStrike">
                <a:solidFill>
                  <a:srgbClr val="006666"/>
                </a:solidFill>
                <a:latin typeface="Arial"/>
              </a:rPr>
              <a:t>VR Requirements</a:t>
            </a:r>
            <a:endParaRPr b="1" lang="en-US" sz="32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meet the three primary characteristics a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d in the Rehabilitation Act:</a:t>
            </a:r>
            <a:endParaRPr b="0" lang="en-US" sz="24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000" spc="-1" strike="noStrike">
                <a:solidFill>
                  <a:srgbClr val="003366"/>
                </a:solidFill>
                <a:latin typeface="Arial"/>
              </a:rPr>
              <a:t>Competitive Wag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Integrated Setting</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Consistent with an individual’s strengths, resources, priorities, concerns, abilities, capabilities, interests, &amp; informed cho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838080"/>
            <a:ext cx="4246560" cy="457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s the employment in the integrated labor market and a setting typically found in the community?</a:t>
            </a:r>
            <a:endParaRPr b="0" lang="en-US" sz="1200" spc="-1" strike="noStrike">
              <a:solidFill>
                <a:srgbClr val="003366"/>
              </a:solidFill>
              <a:latin typeface="Arial"/>
            </a:endParaRPr>
          </a:p>
        </p:txBody>
      </p:sp>
      <p:sp>
        <p:nvSpPr>
          <p:cNvPr id="150" name=""/>
          <p:cNvSpPr/>
          <p:nvPr/>
        </p:nvSpPr>
        <p:spPr>
          <a:xfrm>
            <a:off x="609480" y="1981080"/>
            <a:ext cx="4322880" cy="160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es the individual with a disability have the same opportunity to interact with non-disabled individuals that non-disabled  individuals in the same or similar jobs interact with other persons?  “Other persons” include co-workers, the general public, customers, and vendors, but not those providing services to the individual or a supervisor.</a:t>
            </a:r>
            <a:endParaRPr b="0" lang="en-US" sz="1200" spc="-1" strike="noStrike">
              <a:solidFill>
                <a:srgbClr val="003366"/>
              </a:solidFill>
              <a:latin typeface="Arial"/>
            </a:endParaRPr>
          </a:p>
        </p:txBody>
      </p:sp>
      <p:sp>
        <p:nvSpPr>
          <p:cNvPr id="151" name=""/>
          <p:cNvSpPr/>
          <p:nvPr/>
        </p:nvSpPr>
        <p:spPr>
          <a:xfrm>
            <a:off x="685800" y="4343400"/>
            <a:ext cx="4191120" cy="1108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 </a:t>
            </a:r>
            <a:r>
              <a:rPr b="1" lang="en-US" sz="1200" spc="-1" strike="noStrike">
                <a:solidFill>
                  <a:srgbClr val="003366"/>
                </a:solidFill>
                <a:latin typeface="Arial"/>
              </a:rPr>
              <a:t>Is the individual compensated at or above the minimum wage, but not less than the customary wage and level of benefits paid by the employer for the same or similar work performed by individuals who are not disabled?</a:t>
            </a:r>
            <a:endParaRPr b="0" lang="en-US" sz="1200" spc="-1" strike="noStrike">
              <a:solidFill>
                <a:srgbClr val="003366"/>
              </a:solidFill>
              <a:latin typeface="Arial"/>
            </a:endParaRPr>
          </a:p>
        </p:txBody>
      </p:sp>
      <p:sp>
        <p:nvSpPr>
          <p:cNvPr id="152" name=""/>
          <p:cNvSpPr/>
          <p:nvPr/>
        </p:nvSpPr>
        <p:spPr>
          <a:xfrm>
            <a:off x="1600200" y="6248520"/>
            <a:ext cx="2292480" cy="555480"/>
          </a:xfrm>
          <a:prstGeom prst="rect">
            <a:avLst/>
          </a:prstGeom>
          <a:solidFill>
            <a:srgbClr val="33cc33"/>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EMPLOYMENT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OUTCOME</a:t>
            </a:r>
            <a:endParaRPr b="0" lang="en-US" sz="1400" spc="-1" strike="noStrike">
              <a:solidFill>
                <a:srgbClr val="003366"/>
              </a:solidFill>
              <a:latin typeface="Arial"/>
            </a:endParaRPr>
          </a:p>
        </p:txBody>
      </p:sp>
      <p:sp>
        <p:nvSpPr>
          <p:cNvPr id="153" name=""/>
          <p:cNvSpPr/>
          <p:nvPr/>
        </p:nvSpPr>
        <p:spPr>
          <a:xfrm>
            <a:off x="5943600" y="685800"/>
            <a:ext cx="2141640" cy="77472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integrated</a:t>
            </a:r>
            <a:endParaRPr b="0" lang="en-US" sz="1100" spc="-1" strike="noStrike">
              <a:solidFill>
                <a:srgbClr val="003366"/>
              </a:solidFill>
              <a:latin typeface="Arial"/>
            </a:endParaRPr>
          </a:p>
        </p:txBody>
      </p:sp>
      <p:sp>
        <p:nvSpPr>
          <p:cNvPr id="154" name=""/>
          <p:cNvSpPr/>
          <p:nvPr/>
        </p:nvSpPr>
        <p:spPr>
          <a:xfrm>
            <a:off x="5105520" y="914400"/>
            <a:ext cx="590400" cy="223920"/>
          </a:xfrm>
          <a:custGeom>
            <a:avLst/>
            <a:gdLst>
              <a:gd name="textAreaLeft" fmla="*/ 0 w 590400"/>
              <a:gd name="textAreaRight" fmla="*/ 590760 w 59040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55" name=""/>
          <p:cNvSpPr/>
          <p:nvPr/>
        </p:nvSpPr>
        <p:spPr>
          <a:xfrm rot="5400000">
            <a:off x="2411280" y="5742000"/>
            <a:ext cx="533520" cy="326880"/>
          </a:xfrm>
          <a:custGeom>
            <a:avLst/>
            <a:gdLst>
              <a:gd name="textAreaLeft" fmla="*/ 0 w 533520"/>
              <a:gd name="textAreaRight" fmla="*/ 533880 w 533520"/>
              <a:gd name="textAreaTop" fmla="*/ 0 h 326880"/>
              <a:gd name="textAreaBottom" fmla="*/ 327240 h 32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6" name=""/>
          <p:cNvSpPr/>
          <p:nvPr/>
        </p:nvSpPr>
        <p:spPr>
          <a:xfrm rot="5400000">
            <a:off x="2470680" y="3853800"/>
            <a:ext cx="533160" cy="293400"/>
          </a:xfrm>
          <a:custGeom>
            <a:avLst/>
            <a:gdLst>
              <a:gd name="textAreaLeft" fmla="*/ 0 w 533160"/>
              <a:gd name="textAreaRight" fmla="*/ 533520 w 533160"/>
              <a:gd name="textAreaTop" fmla="*/ 0 h 293400"/>
              <a:gd name="textAreaBottom" fmla="*/ 293760 h 29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7" name=""/>
          <p:cNvSpPr/>
          <p:nvPr/>
        </p:nvSpPr>
        <p:spPr>
          <a:xfrm rot="5400000">
            <a:off x="2470320" y="1491480"/>
            <a:ext cx="533520" cy="293400"/>
          </a:xfrm>
          <a:custGeom>
            <a:avLst/>
            <a:gdLst>
              <a:gd name="textAreaLeft" fmla="*/ 0 w 533520"/>
              <a:gd name="textAreaRight" fmla="*/ 533880 w 533520"/>
              <a:gd name="textAreaTop" fmla="*/ 0 h 293400"/>
              <a:gd name="textAreaBottom" fmla="*/ 293760 h 29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8" name=""/>
          <p:cNvSpPr/>
          <p:nvPr/>
        </p:nvSpPr>
        <p:spPr>
          <a:xfrm>
            <a:off x="5029200" y="2666880"/>
            <a:ext cx="592200" cy="222480"/>
          </a:xfrm>
          <a:custGeom>
            <a:avLst/>
            <a:gdLst>
              <a:gd name="textAreaLeft" fmla="*/ 0 w 592200"/>
              <a:gd name="textAreaRight" fmla="*/ 592560 w 592200"/>
              <a:gd name="textAreaTop" fmla="*/ 0 h 222480"/>
              <a:gd name="textAreaBottom" fmla="*/ 222840 h 22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59" name=""/>
          <p:cNvSpPr/>
          <p:nvPr/>
        </p:nvSpPr>
        <p:spPr>
          <a:xfrm>
            <a:off x="5029200" y="4648320"/>
            <a:ext cx="593640" cy="223560"/>
          </a:xfrm>
          <a:custGeom>
            <a:avLst/>
            <a:gdLst>
              <a:gd name="textAreaLeft" fmla="*/ 0 w 593640"/>
              <a:gd name="textAreaRight" fmla="*/ 594000 w 593640"/>
              <a:gd name="textAreaTop" fmla="*/ 0 h 223560"/>
              <a:gd name="textAreaBottom" fmla="*/ 223920 h 22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60" name=""/>
          <p:cNvSpPr/>
          <p:nvPr/>
        </p:nvSpPr>
        <p:spPr>
          <a:xfrm>
            <a:off x="5867280" y="4419720"/>
            <a:ext cx="2141640" cy="77616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competitive</a:t>
            </a:r>
            <a:endParaRPr b="0" lang="en-US" sz="1100" spc="-1" strike="noStrike">
              <a:solidFill>
                <a:srgbClr val="003366"/>
              </a:solidFill>
              <a:latin typeface="Arial"/>
            </a:endParaRPr>
          </a:p>
        </p:txBody>
      </p:sp>
      <p:sp>
        <p:nvSpPr>
          <p:cNvPr id="161" name=""/>
          <p:cNvSpPr/>
          <p:nvPr/>
        </p:nvSpPr>
        <p:spPr>
          <a:xfrm>
            <a:off x="5867280" y="2362320"/>
            <a:ext cx="2141640" cy="77616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integrated</a:t>
            </a:r>
            <a:endParaRPr b="0" lang="en-US" sz="1100" spc="-1" strike="noStrike">
              <a:solidFill>
                <a:srgbClr val="003366"/>
              </a:solidFill>
              <a:latin typeface="Arial"/>
            </a:endParaRPr>
          </a:p>
        </p:txBody>
      </p:sp>
      <p:sp>
        <p:nvSpPr>
          <p:cNvPr id="162" name=""/>
          <p:cNvSpPr/>
          <p:nvPr/>
        </p:nvSpPr>
        <p:spPr>
          <a:xfrm>
            <a:off x="1447920" y="228600"/>
            <a:ext cx="6476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Employment Outcome Decision Matrix</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and agreed to by: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Public Instruction (Youth)</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Health Services (Adult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Workforce Development and DVR (Youth and Adults)  </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0 Interagency Agreement is expanded from the 2007 Youth-based agreem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cuses o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with disabilities transitioning from high school and adults with disabiliti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aboratively and cooperatively providing services to achieve integrated competitive employm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sconsin’s Environment for Medicaid and Long-Term Care System Change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sconsin Center for Delivery Systems Development (1998-2004)</a:t>
            </a:r>
            <a:endParaRPr b="0" lang="en-US" sz="20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tate Medicaid Agency’s “Think Tank” for long-term care redesign </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ated to address increasing LTC costs, consumer dissatisfaction with services and wait list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given charge to improve employment outcomes for Medicaid recipients with disabilities, including HCBS participant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ed and implemented “Family Care” model of managed care for people with DD, PD and Frail Elder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ed and implemented Medicaid buy-in program for workers with disabilitie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vanced service innovations, including Work Incentive Benefits Counsel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6" name="PlaceHolder 2"/>
          <p:cNvSpPr>
            <a:spLocks noGrp="1"/>
          </p:cNvSpPr>
          <p:nvPr>
            <p:ph/>
          </p:nvPr>
        </p:nvSpPr>
        <p:spPr>
          <a:xfrm>
            <a:off x="990720" y="2438280"/>
            <a:ext cx="76960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rpose: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lfills mandates found in the IDEA and Rehabilitation Acts, and the Wisconsin Department of Health Services Medicaid waiver requirements;</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fines interagency relationships and common policies and procedures; </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ates common understanding at the systemic as well as the service delivery level; and</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ablishes collaborative efforts regarding improvement of employment outcomes for individuals with disabiliti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reement Includ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view of transitioning to employmen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ency commitments and prioriti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 and resolution of conflict.</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ical Assistance Guides (TAG)</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and put into practice the Interagency Agreement</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igned for all stakeholders in the process- consumer, parents, DVR Staff, Teachers, Care Managers, etc. </a:t>
            </a:r>
            <a:endParaRPr b="0" lang="en-US" sz="24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AGS</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ransition</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dult Services</a:t>
            </a:r>
            <a:endParaRPr b="0" lang="en-US" sz="2400" spc="-1" strike="noStrike">
              <a:solidFill>
                <a:srgbClr val="003366"/>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mpact on Prevocational Service Providers:</a:t>
            </a:r>
            <a:br>
              <a:rPr sz="2800"/>
            </a:br>
            <a:r>
              <a:rPr b="1" lang="en-US" sz="2800" spc="-1" strike="noStrike">
                <a:solidFill>
                  <a:srgbClr val="006666"/>
                </a:solidFill>
                <a:latin typeface="Arial"/>
              </a:rPr>
              <a:t>Threat, Challenge or Opportunity?</a:t>
            </a:r>
            <a:endParaRPr b="1" lang="en-US" sz="2800" spc="-1" strike="noStrike">
              <a:solidFill>
                <a:srgbClr val="006666"/>
              </a:solidFill>
              <a:latin typeface="Arial"/>
            </a:endParaRPr>
          </a:p>
        </p:txBody>
      </p:sp>
      <p:sp>
        <p:nvSpPr>
          <p:cNvPr id="172" name="PlaceHolder 2"/>
          <p:cNvSpPr>
            <a:spLocks noGrp="1"/>
          </p:cNvSpPr>
          <p:nvPr>
            <p:ph/>
          </p:nvPr>
        </p:nvSpPr>
        <p:spPr>
          <a:xfrm>
            <a:off x="914400" y="2361960"/>
            <a:ext cx="777240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y Questions</a:t>
            </a: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kill training, Production or Employmen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 term or long term op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inuation of 14c sub-minimum wag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ture availability of work?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oice?  Real Choice?  Informed Choi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mpact on Prevocational Service Providers:</a:t>
            </a:r>
            <a:br>
              <a:rPr sz="2800"/>
            </a:br>
            <a:r>
              <a:rPr b="1" lang="en-US" sz="2800" spc="-1" strike="noStrike">
                <a:solidFill>
                  <a:srgbClr val="006666"/>
                </a:solidFill>
                <a:latin typeface="Arial"/>
              </a:rPr>
              <a:t>Threat, Challenge or Opportunity?</a:t>
            </a:r>
            <a:endParaRPr b="1" lang="en-US" sz="2800" spc="-1" strike="noStrike">
              <a:solidFill>
                <a:srgbClr val="006666"/>
              </a:solidFill>
              <a:latin typeface="Arial"/>
            </a:endParaRPr>
          </a:p>
        </p:txBody>
      </p:sp>
      <p:sp>
        <p:nvSpPr>
          <p:cNvPr id="174" name="PlaceHolder 2"/>
          <p:cNvSpPr>
            <a:spLocks noGrp="1"/>
          </p:cNvSpPr>
          <p:nvPr>
            <p:ph/>
          </p:nvPr>
        </p:nvSpPr>
        <p:spPr>
          <a:xfrm>
            <a:off x="914400" y="2361960"/>
            <a:ext cx="777240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y Questions</a:t>
            </a:r>
            <a:endParaRPr b="0" lang="en-US" sz="24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mingly predictable/sustainable service revenues along with agency-directed services? OR                                                                                                               Less predictable revenues and self-directed/externally-directed service deliver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supports desired by future transitioning student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neficial learning and experience options:  how; where; for how long; all of it work related?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rates versus costs? Staffing ratio/structur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vocational Services: </a:t>
            </a:r>
            <a:br>
              <a:rPr sz="3200"/>
            </a:br>
            <a:r>
              <a:rPr b="1" lang="en-US" sz="3200" spc="-1" strike="noStrike">
                <a:solidFill>
                  <a:srgbClr val="006666"/>
                </a:solidFill>
                <a:latin typeface="Arial"/>
              </a:rPr>
              <a:t>The Portal Way</a:t>
            </a:r>
            <a:endParaRPr b="1" lang="en-US" sz="3200" spc="-1" strike="noStrike">
              <a:solidFill>
                <a:srgbClr val="006666"/>
              </a:solidFill>
              <a:latin typeface="Arial"/>
            </a:endParaRPr>
          </a:p>
        </p:txBody>
      </p:sp>
      <p:sp>
        <p:nvSpPr>
          <p:cNvPr id="176"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s dependency on subcontract work</a:t>
            </a:r>
            <a:endParaRPr b="0" lang="en-US" sz="20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emphasis on community, employment learning sessions and confidence building opportunities </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 term, ancillary and safety net service option</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awareness and preparation opportunities (not job readines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listic and community experience model</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ed choice and self advocacy </a:t>
            </a:r>
            <a:endParaRPr b="0" lang="en-US" sz="20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rting with the person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91440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act on Portal as a Service Provider</a:t>
            </a:r>
            <a:endParaRPr b="1" lang="en-US" sz="3200" spc="-1" strike="noStrike">
              <a:solidFill>
                <a:srgbClr val="006666"/>
              </a:solidFill>
              <a:latin typeface="Arial"/>
            </a:endParaRPr>
          </a:p>
        </p:txBody>
      </p:sp>
      <p:sp>
        <p:nvSpPr>
          <p:cNvPr id="178" name="PlaceHolder 2"/>
          <p:cNvSpPr>
            <a:spLocks noGrp="1"/>
          </p:cNvSpPr>
          <p:nvPr>
            <p:ph/>
          </p:nvPr>
        </p:nvSpPr>
        <p:spPr>
          <a:xfrm>
            <a:off x="1066320" y="2437920"/>
            <a:ext cx="762012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ral and Service Policy for Working Age Adults  (18 - 55 years)</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on paper</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Definition- “real, regular and ordinary”</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as a first and </a:t>
            </a:r>
            <a:r>
              <a:rPr b="0" i="1" lang="en-US" sz="2000" spc="-1" strike="noStrike">
                <a:solidFill>
                  <a:srgbClr val="003366"/>
                </a:solidFill>
                <a:latin typeface="Arial"/>
              </a:rPr>
              <a:t>encouraged</a:t>
            </a:r>
            <a:r>
              <a:rPr b="0" lang="en-US" sz="2000" spc="-1" strike="noStrike">
                <a:solidFill>
                  <a:srgbClr val="003366"/>
                </a:solidFill>
                <a:latin typeface="Arial"/>
              </a:rPr>
              <a:t> option</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itional services for students 16-18 years for school to work planning and preparation</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Plan outcomes, next actions and documented progress</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duction focus to holistic learning opportunities and community/work experienc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91440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act on Portal as a Service Provider</a:t>
            </a:r>
            <a:endParaRPr b="1" lang="en-US" sz="3200" spc="-1" strike="noStrike">
              <a:solidFill>
                <a:srgbClr val="006666"/>
              </a:solidFill>
              <a:latin typeface="Arial"/>
            </a:endParaRPr>
          </a:p>
        </p:txBody>
      </p:sp>
      <p:sp>
        <p:nvSpPr>
          <p:cNvPr id="180" name="PlaceHolder 2"/>
          <p:cNvSpPr>
            <a:spLocks noGrp="1"/>
          </p:cNvSpPr>
          <p:nvPr>
            <p:ph/>
          </p:nvPr>
        </p:nvSpPr>
        <p:spPr>
          <a:xfrm>
            <a:off x="1066320" y="2437920"/>
            <a:ext cx="762012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ed choice, self advocacy</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branding our service to a process towards an outcome, not a model.</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ff, family and community awareness/education</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tructure staff</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rates-level of service and outcom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y Indicators and Customer Serv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914400"/>
            <a:ext cx="77724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izing Opportunity for Change</a:t>
            </a:r>
            <a:endParaRPr b="1" lang="en-US" sz="3200" spc="-1" strike="noStrike">
              <a:solidFill>
                <a:srgbClr val="006666"/>
              </a:solidFill>
              <a:latin typeface="Arial"/>
            </a:endParaRPr>
          </a:p>
        </p:txBody>
      </p:sp>
      <p:sp>
        <p:nvSpPr>
          <p:cNvPr id="182" name="PlaceHolder 2"/>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has c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llenge the status quo… “Is happy enoug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se of urgency and opportun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y tru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ebrate and celebrate oft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and mentoring through DHS: MIG grant activities and opportun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Connections-Renewed Connec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icipating in DHS/MIG Rebalancing Initiative</a:t>
            </a:r>
            <a:endParaRPr b="1" lang="en-US" sz="32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ividuals transitioning from prevocational services to at least part-time integrated employ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transitioning from school to integrated wor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ing community conn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ormation sha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and Mento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gni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 plant the seeds to initiate the chan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mily Care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gan with five county pilot in 2000</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system serving people with developmental disabilities, physical disabilities, and elderly</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05 evaluation led to legislative support for statewide implementation</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of state now under managed care</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directed supports waiver offered as another o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mbrella of Employment Services and Strategies</a:t>
            </a:r>
            <a:endParaRPr b="1" lang="en-US" sz="3200" spc="-1" strike="noStrike">
              <a:solidFill>
                <a:srgbClr val="006666"/>
              </a:solidFill>
              <a:latin typeface="Arial"/>
            </a:endParaRPr>
          </a:p>
        </p:txBody>
      </p:sp>
      <p:sp>
        <p:nvSpPr>
          <p:cNvPr id="186" name="PlaceHolder 2"/>
          <p:cNvSpPr>
            <a:spLocks noGrp="1"/>
          </p:cNvSpPr>
          <p:nvPr>
            <p:ph/>
          </p:nvPr>
        </p:nvSpPr>
        <p:spPr>
          <a:xfrm>
            <a:off x="990720" y="2438280"/>
            <a:ext cx="7696080" cy="41911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nciple of the ordinary way</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overy Profile</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Developmen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tional Interviewing</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stomizing Employmen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themes and list of 20 potential employer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aching for ordinary/regular support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active employment follow up, mentoring, consulting and solution finding</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onship building at the front end not the back en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ing Forward</a:t>
            </a:r>
            <a:endParaRPr b="1" lang="en-US" sz="3600" spc="-1" strike="noStrike">
              <a:solidFill>
                <a:srgbClr val="006666"/>
              </a:solidFill>
              <a:latin typeface="Arial"/>
            </a:endParaRPr>
          </a:p>
        </p:txBody>
      </p:sp>
      <p:sp>
        <p:nvSpPr>
          <p:cNvPr id="188"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m structure</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y Indicators (for performance and outcome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ing and rate setting that incorporates:</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1) actual service components (direct staff, program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management, staff mileage, staff training,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dministrative and general expenses)</a:t>
            </a:r>
            <a:endParaRPr b="0" lang="en-US" sz="18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2) enhanced levels of service/support for some individuals</a:t>
            </a:r>
            <a:endParaRPr b="0" lang="en-US" sz="18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3) performance or outcome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4) stabilization (hours worked of employee not staff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support hour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y Focused</a:t>
            </a:r>
            <a:endParaRPr b="1" lang="en-US" sz="3600" spc="-1" strike="noStrike">
              <a:solidFill>
                <a:srgbClr val="006666"/>
              </a:solidFill>
              <a:latin typeface="Arial"/>
            </a:endParaRPr>
          </a:p>
        </p:txBody>
      </p:sp>
      <p:sp>
        <p:nvSpPr>
          <p:cNvPr id="190"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Obstacles are those frightful things you see when you take your eyes off your goal.”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Henry For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desire for success should be greater than your fear of failur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Bill Cos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 Electronic Version of Presentation and Handouts</a:t>
            </a:r>
            <a:endParaRPr b="1" lang="en-US" sz="3200" spc="-1" strike="noStrike">
              <a:solidFill>
                <a:srgbClr val="006666"/>
              </a:solidFill>
              <a:latin typeface="Arial"/>
            </a:endParaRPr>
          </a:p>
        </p:txBody>
      </p:sp>
      <p:sp>
        <p:nvSpPr>
          <p:cNvPr id="192" name="PlaceHolder 1"/>
          <p:cNvSpPr>
            <a:spLocks noGrp="1"/>
          </p:cNvSpPr>
          <p:nvPr>
            <p:ph/>
          </p:nvPr>
        </p:nvSpPr>
        <p:spPr>
          <a:xfrm>
            <a:off x="838080" y="2361960"/>
            <a:ext cx="7772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lease contact John Reiser:</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	</a:t>
            </a:r>
            <a:r>
              <a:rPr b="0" lang="en-US" sz="3200" spc="-1" strike="noStrike" u="sng">
                <a:solidFill>
                  <a:srgbClr val="003366"/>
                </a:solidFill>
                <a:uFillTx/>
                <a:latin typeface="Arial"/>
                <a:hlinkClick r:id="rId1"/>
              </a:rPr>
              <a:t>John.Reiser@dhs.wisconsin.gov</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608-266-3063</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er Contact Information</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ne Dwyer, Wisconsin DV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608 261 2126</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lene.dwyer@dwd.wisconsin.gov</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rol Stuebe, Portal In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262 377 441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u="sng">
                <a:solidFill>
                  <a:srgbClr val="003366"/>
                </a:solidFill>
                <a:uFillTx/>
                <a:latin typeface="Arial"/>
                <a:hlinkClick r:id="rId1"/>
              </a:rPr>
              <a:t>cstuebe@portalindustries.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a Mill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608 225 4326</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isa.mills@dhs.wisconsin.gov</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mily Care</a:t>
            </a:r>
            <a:endParaRPr b="1" lang="en-US" sz="3600" spc="-1" strike="noStrike">
              <a:solidFill>
                <a:srgbClr val="006666"/>
              </a:solidFill>
              <a:latin typeface="Arial"/>
            </a:endParaRPr>
          </a:p>
        </p:txBody>
      </p:sp>
      <p:sp>
        <p:nvSpPr>
          <p:cNvPr id="104"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336 individuals with ID/DD in Family Care or SDS option</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titlement created:  ends waiting lists for community services</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driven service authorizations</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per-person spending expected as the result of more cost-effective supports</a:t>
            </a:r>
            <a:endParaRPr b="0" lang="en-US" sz="24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flexibility on how supports can be provided and who can provide the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006-07:  A Hard Look in the Employment Outcomes Mirror</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people with disabilities served by the long-term care system are unemployed or employed in non-integrated settings, making sub-minimum wages.</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st 25% of people with developmental disabilities in managed care involved in integrated employment (including crews/enclaves). [2006]</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st 5% of people with physical disabilities in managed care involved in integrated employment.  [2006]</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416 individuals with disabilities in sheltered workshops making sub-minimum wage, with 35% earning &lt;$1.00 [2005].</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ility-based employment “quick fix” for people with disabilities coming off waiting list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anaged Care and Employment Task Force (MCETF)</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eated to design a “blueprint” for improved employment outcomes and services in Family Ca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mbers appointed by Administrator for the Division of Long-Term Ca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ired by Deputy Administrator of the Divis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 highly respected members, including wide range of stakeholde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 issue committees, involving over 100 other contributo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 month proces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sessions held June, 200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 report submitted July, 200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4 recommendations accepted by Department Secretary in December, 2008.   Implementation is on-goi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nuary, 2009</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vision of Long-Term Care adopted a strategic priority to </a:t>
            </a:r>
            <a:r>
              <a:rPr b="1" i="1" lang="en-US" sz="2400" spc="-1" strike="noStrike">
                <a:solidFill>
                  <a:srgbClr val="003366"/>
                </a:solidFill>
                <a:latin typeface="Arial"/>
              </a:rPr>
              <a:t>promote and support integrated employment outcomes among people with disabilities</a:t>
            </a:r>
            <a:r>
              <a:rPr b="0" lang="en-US" sz="2400" spc="-1" strike="noStrike">
                <a:solidFill>
                  <a:srgbClr val="003366"/>
                </a:solidFill>
                <a:latin typeface="Arial"/>
              </a:rPr>
              <a:t> eligible for, or receiving, Medicaid funded servic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s individuals receiving long-term care servic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measure for long-term care system: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umber of Family Care and SDS waiver participants with integrated employment goals included in their long-term care pla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 </a:t>
            </a:r>
            <a:br>
              <a:rPr sz="3200"/>
            </a:br>
            <a:r>
              <a:rPr b="1" lang="en-US" sz="3200" spc="-1" strike="noStrike">
                <a:solidFill>
                  <a:srgbClr val="006666"/>
                </a:solidFill>
                <a:latin typeface="Arial"/>
              </a:rPr>
              <a:t>People with ID/DD</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partment should collaborate with DVR on policy guidance for DVR counselors and MCO care management teams in order to ensure DVR services are available to: </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in work centers/sheltered facilities;</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in group employment (e.g. enclaves)</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receiving day services who express </a:t>
            </a:r>
            <a:r>
              <a:rPr b="0" lang="en-US" sz="2400" spc="-1" strike="noStrike">
                <a:solidFill>
                  <a:srgbClr val="003366"/>
                </a:solidFill>
                <a:latin typeface="Arial"/>
              </a:rPr>
              <a:t>	</a:t>
            </a:r>
            <a:r>
              <a:rPr b="0" lang="en-US" sz="2400" spc="-1" strike="noStrike">
                <a:solidFill>
                  <a:srgbClr val="003366"/>
                </a:solidFill>
                <a:latin typeface="Arial"/>
              </a:rPr>
              <a:t>an interest in competitive, integrated </a:t>
            </a:r>
            <a:r>
              <a:rPr b="0" lang="en-US" sz="2400" spc="-1" strike="noStrike">
                <a:solidFill>
                  <a:srgbClr val="003366"/>
                </a:solidFill>
                <a:latin typeface="Arial"/>
              </a:rPr>
              <a:t>	</a:t>
            </a:r>
            <a:r>
              <a:rPr b="0" lang="en-US" sz="2400" spc="-1" strike="noStrike">
                <a:solidFill>
                  <a:srgbClr val="003366"/>
                </a:solidFill>
                <a:latin typeface="Arial"/>
              </a:rPr>
              <a:t>employment.  </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licy guidelines should be covered in the joint agency training and technical assistance efforts.</a:t>
            </a:r>
            <a:endParaRPr b="0" lang="en-US" sz="2400" spc="-1" strike="noStrike">
              <a:solidFill>
                <a:srgbClr val="00336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3:16:27Z</dcterms:created>
  <dc:creator>DHFS</dc:creator>
  <dc:description/>
  <dc:language>en-US</dc:language>
  <cp:lastModifiedBy>PatriciaC</cp:lastModifiedBy>
  <dcterms:modified xsi:type="dcterms:W3CDTF">2011-03-09T13:57:32Z</dcterms:modified>
  <cp:revision>57</cp:revision>
  <dc:subject/>
  <dc:title>John’s Slide Show </dc:title>
</cp:coreProperties>
</file>